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822-A7DD-4E4C-931D-8619FABC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DB1-B1D2-484F-AA7F-27A0CAE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EA1-A44C-4C1C-869D-04CD0393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8BA-D739-4354-96EE-4A2ABA3B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423-7052-4D85-9388-ECEC96C8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352-89D8-4142-8ECE-6E27FCA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F52-0578-4BC5-90F3-2DB38CA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E00-EF33-4BC0-A74E-DC22264A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255-84DC-4972-8772-B9F2CEAE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2BD-BC02-46F1-B943-A6DB0A9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9B8-EE20-4923-B4D9-FE4A9101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0F1-74AC-42E5-A104-48CEDA4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2A6-BB27-446B-8BF5-EC665F8203EA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4083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125360"/>
            <a:ext cx="324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8000" y="3867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125360"/>
            <a:ext cx="331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108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49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731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528624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3440" y="4516560"/>
            <a:ext cx="74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8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70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12-09T06:43:34Z</dcterms:modified>
  <cp:revision>144</cp:revision>
  <dc:subject/>
  <dc:title>PowerPoint Presentation</dc:title>
</cp:coreProperties>
</file>